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968-9EF7-454A-ACE7-93AF40C9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EB0-369D-4931-89D8-E5E73487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AB6-3CFA-4BF3-B94A-E0EFE88B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24D-618D-46AF-84ED-BC0D0B40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E6C2-C3C0-4A12-8966-CBF54214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9EE0-1AC6-416A-80E3-9E3825FF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837D-C36E-42A8-8125-516D75A4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11CA-D580-4076-8D3F-D6CF3BFC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CB40-0AD8-48F8-8B44-22EA3C97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57A8-D854-456E-9F44-F3D7E5A3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954B-DC0C-4018-B92A-74E58811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128-ACF2-4605-8DC9-C0057E7B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5A24-D26D-4624-A642-3A431C4E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7309-9A97-4965-AECC-BE2E102A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B488-7642-48E3-88ED-3B84B6D7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FAEC-C5EA-4802-9F5C-74A1E7ED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373A-9CDD-47C7-8441-1D12B446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066-5279-4DBF-8BCB-61DE806D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20F-51CB-425A-B14D-47824175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F7A-5C14-423B-A270-43043719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70D-D1A4-40EB-AA24-8665C2D6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3C0-DA80-4EDE-B722-00508C71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E00-FF44-4AF9-9AE1-C418B31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375-5598-4F83-B091-EFEBF7C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C4F9-2B10-4A93-A707-EEBD6309DF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FCE3-1635-46DF-AB53-4F834A7329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fzibran@ucalgary.ca" TargetMode="External"/><Relationship Id="rId3" Type="http://schemas.openxmlformats.org/officeDocument/2006/relationships/hyperlink" Target="http://www.ucalgary.ca/~mfzibran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SC 203 Tutori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ction: T3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days and Wednes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:00 PM – 4:50 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: MS 236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ching Assista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hi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D student, Dept. of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mfzibran@ucalgary.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ucalgary.ca/~mfzibr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T Hour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iday, 11 AM-12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om: MS 23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t 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 Time Box Assignmen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ct: MS Excel Spreadshe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ct: MS Access Data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2 Nov: Problem Solv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Take Home Assign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1 due on Oct 2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ignment 2 due on Nov 2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 Term Proje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done in the wik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iki.ucalgary.ca/page/Courses/Computer_Science/CPSC_203/CPSC_203_Tem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20:45:42Z</dcterms:created>
  <dc:creator>Fahim</dc:creator>
  <dc:description/>
  <dc:language>en-US</dc:language>
  <cp:lastModifiedBy>Fahim</cp:lastModifiedBy>
  <dcterms:modified xsi:type="dcterms:W3CDTF">2008-09-15T21:04:12Z</dcterms:modified>
  <cp:revision>13</cp:revision>
  <dc:subject/>
  <dc:title>CPSC 203 Tutorial Section: T32</dc:title>
</cp:coreProperties>
</file>